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CB1-BE81-4DDD-A537-E811B4B6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C74-218D-4AD0-BC51-A27D6F75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92C-0B02-40A6-8A52-FB2EECF7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B91-FA1B-4755-B50F-DA8CF795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CA4D-A04C-417D-B3E1-29C9B2B0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0B1A-F80C-4BA6-90D0-234B05C0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7E48-2EF9-4D46-817A-0BC7AFE7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C7F6-6B87-4EDD-A4B9-5A6DBDAE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3325-F9EF-4743-8F15-CEF12309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99A4-3ADD-4314-AA2D-50907429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C79D-4D1E-4865-9C3B-FB5E23B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4CD-C35F-4072-A87A-EDA0172E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9B42-A541-41F5-A63C-D2F123C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C2DF-E43F-4CB7-9E0A-A54D6358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B144-4E34-4C99-9C69-6BF78AE9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F596-530C-4949-8DBC-8CF3EAD5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EEA6-6C2C-4B42-A15C-148CD6B9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43D0-5A18-4900-A7D8-4A00E9D6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328E-CDC9-49E5-84A0-A2567915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4196-10DD-4080-859D-2BFFFCB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94DB4-7B14-48D2-9B35-118BE436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07F2-AB9C-4974-ADE3-676C56D2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A65-E94D-4EA0-A03D-F78CD46E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1A37-7EA5-4BDE-B0DB-6F0F02E4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D721-BBC1-4746-996A-444FE870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4074-0662-4167-AA67-64DA02E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291E-0B09-4702-AC64-23C77E9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DCFF-D3C7-45F5-993C-D603A83D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BB0F-805F-405F-8482-8C8AE312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B4F3-C188-4275-AC00-FD9E447A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6C0B4-9650-4EBE-9BD4-EC74A284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65F09-4B2F-4065-8ACF-41402180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78684-9535-4E96-9BBE-F3B14AE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FC0-E69C-4E6A-BC97-264CFB74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7A61B-EF1F-48CB-A0AE-DFB57E9A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FE4DE-0DAB-4314-99AB-2C95E776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99C99-E64B-4833-8001-9704E942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643E6-DE36-4EB1-A1D5-9371444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E95FC-C077-4DF9-B85D-0CCE83F7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05771-A055-4929-8EF9-967F0440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92632-4AC0-4602-B7EA-3BC8B4E9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9A4D4-70E1-4144-9C87-E34DBBC9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9EFD8-8049-4B35-9F58-3A3F851B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2DD0-8AE6-478D-A9FA-F13E1462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902-98BF-4E8A-9C2B-14A3CD63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944D6-B311-4E21-809A-1A96FE82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F267-32D0-473D-8FA6-73976E3A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45F5-D9D6-4F1A-BC8E-34F15E74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93CC2-CE3D-4C99-BCC9-7A463B95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DDD84-29DC-421E-B0AA-66F9CD66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E8050-A818-42EA-89AE-82C0120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68B7-42AD-4CAF-A3FE-1D2DD4A9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28F6D-5B84-46F1-9ECA-5B5048A9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3AF90-4040-47F0-A858-BB60B0F2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E900E-6064-4AE8-804B-277DD88E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D82-EE57-4C42-8C15-599029B3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9BA5-1F66-4BBA-B8E1-27037609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BD328-0B58-40DF-9730-8DE99A3C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61168-6FE7-4F4D-A34C-9453CD0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AE02-036E-4741-AA72-C4A2A006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A687-1A42-48CD-900D-7FEAFEAB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B0E0B-A478-4A26-A1A9-33CA1458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326C8-C764-4485-9246-3788EFD3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4B613-E1DE-47DE-98B3-03A83285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8D7AC-23AF-4F70-B9BA-F8C3220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CCC97-BDD1-4C5E-84E6-EF7DF13A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710-B7C9-4D31-BCD9-4B224A2D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7A542-840F-439A-B1CC-3E077874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C6E75-B58E-4713-8889-B2A2A2D3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F4D9D-5B2A-4113-AEE6-37DB13B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DBCE3-F154-4B58-B36B-6CD82165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A734F-CF1E-4CC0-8541-F7846AC0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76EA-A2D9-4729-94D2-1F06C6A2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6A840-EC29-44E2-A9A2-AD81939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145DF-72C4-4648-933D-9AACCF3C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009F8-EFFD-46C6-B876-49B2B87A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FE733-E0FE-4D82-86F5-CEF7B621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47A-284A-498B-8FCC-18CB89F0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F7435-BEB4-49F9-9005-2DAF2193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C528-AE05-4DD4-9E2C-C04A41B9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D21FD-29BF-42B6-A906-847EEF70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524D-2D55-4345-ACD4-80C01986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247B6-2382-4384-9EB0-A1EB6EB9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779629-0C14-438F-A878-E6ACCFD6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8FBC51-86CC-4708-A402-3795AB62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965958-6BA2-4606-8DE6-68916D84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958D3C-6E75-4052-AE5F-6291225D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315936-199C-4AB7-9C58-8EE0D856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583-C87C-40EC-80A5-BA79785F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1B406-6C12-47F8-8BA6-EADA9054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36C52E-7090-4154-A10F-0EF36120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9B99FC-0604-4A0A-B64A-7FA5B42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1BCE7-CCBD-4D66-A94A-52F481E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2B4792-312F-4830-9A24-E474D444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694C3-C164-4C18-B29D-6001E41F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38292-8257-4C1E-B630-67F3E085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AE2-46E2-4ECC-A56F-3E02D008E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3E29-0929-4539-BAAE-F611776DA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5D0F-E275-4716-A156-AA802EF3CD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B4CB-9AE0-4FC3-8FE2-7D2975634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BC7C-262B-4E98-B321-ACDDCEB34F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601-07C4-4829-B039-D6884CC2BE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C65-8832-4A87-B764-8DA1EC0FA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C96-9ECF-4EBA-B1B1-468B6E5EC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tl.com.tw/" TargetMode="External"/><Relationship Id="rId2" Type="http://schemas.openxmlformats.org/officeDocument/2006/relationships/hyperlink" Target="http://www.ctl.com.tw/" TargetMode="External"/><Relationship Id="rId3" Type="http://schemas.openxmlformats.org/officeDocument/2006/relationships/hyperlink" Target="mailto:sales@ctl.com.tw" TargetMode="External"/><Relationship Id="rId4" Type="http://schemas.openxmlformats.org/officeDocument/2006/relationships/hyperlink" Target="mailto:edu@ctl.com.tw" TargetMode="External"/><Relationship Id="rId5" Type="http://schemas.openxmlformats.org/officeDocument/2006/relationships/hyperlink" Target="mailto:eng@ctl.com.tw" TargetMode="External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標楷體"/>
              </a:rPr>
              <a:t>天理電腦資訊有限公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標楷體"/>
              </a:rPr>
              <a:t>會計天師安裝說明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317304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標楷體"/>
              </a:rPr>
              <a:t>ACCOUNTING SYSTEM INSTA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otum"/>
                <a:ea typeface="Dotum"/>
              </a:rPr>
              <a:t>本範例適用於</a:t>
            </a:r>
            <a:r>
              <a:rPr b="0" lang="en-US" sz="1600" spc="-1" strike="noStrike">
                <a:solidFill>
                  <a:srgbClr val="ffffff"/>
                </a:solidFill>
                <a:latin typeface="Dotum"/>
                <a:ea typeface="Dotum"/>
              </a:rPr>
              <a:t>WINDOWS X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otum"/>
                <a:ea typeface="Dotum"/>
              </a:rPr>
              <a:t>資料庫採用</a:t>
            </a:r>
            <a:r>
              <a:rPr b="0" lang="en-US" sz="1600" spc="-1" strike="noStrike">
                <a:solidFill>
                  <a:srgbClr val="ffffff"/>
                </a:solidFill>
                <a:latin typeface="Dotum"/>
                <a:ea typeface="Dotum"/>
              </a:rPr>
              <a:t>MS-SQL 2000 Server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標楷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八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安裝完成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開始→所有程式→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Microsoft  SQL Server→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服務管理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勾選開始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勾選開機時自動啟動服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記住您的伺服器名稱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例如：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ACER-NO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九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開始→所有程式→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Microsoft  SQL Server→Enterprise Manag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依序點選至資料庫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按滑鼠右鍵新增資料庫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標楷體"/>
                <a:ea typeface="標楷體"/>
              </a:rPr>
              <a:t>步驟十、資料庫安裝   會計天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填入資料庫名稱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請您記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本例資料庫名稱為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AC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確定離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會計天師安裝步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放入會計天師安裝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點選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SETUP.EX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開始安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其餘安裝皆選擇內定值即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一、會計天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安裝完成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:\PROGRAM FILES\ConnectionString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點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分別填入以下資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Data Source=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伺服器名稱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Initial Catalog=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資料庫名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er ID=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使用者名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Passoword=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使用者密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修改完成後存檔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在此舉例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Data Source=ACER-NO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Initial Catalog=AC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er ID=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Password=xxxxxxx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二、保護鎖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程式本身是靠保護鎖來控制軟體的使用，保護所有兩種規格，一是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Printer Port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，一是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B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介面，請將隨附之保護鎖裝妥於電腦印表機埠或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B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介面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LPT Port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安裝方式：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執行會計天師安裝片中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HDD32.EXE(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驅動程式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)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依序步驟安裝                選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Typical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安裝完成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B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介面安裝方式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：             執行會計天師安裝片中       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大傳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驅動程式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-USB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介面中的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haspdinst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程式            請在執行列中鍵入        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haspdinst –install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即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932360" y="5445000"/>
            <a:ext cx="3822840" cy="10224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324000" y="4076640"/>
            <a:ext cx="4392360" cy="21495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716360" y="620640"/>
            <a:ext cx="3240360" cy="609840"/>
          </a:xfrm>
          <a:prstGeom prst="wedgeRoundRectCallout">
            <a:avLst>
              <a:gd name="adj1" fmla="val -62004"/>
              <a:gd name="adj2" fmla="val 113282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inter Por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保護鎖安裝方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5280" y="6248520"/>
            <a:ext cx="3384720" cy="493560"/>
          </a:xfrm>
          <a:prstGeom prst="wedgeRoundRectCallout">
            <a:avLst>
              <a:gd name="adj1" fmla="val -5300"/>
              <a:gd name="adj2" fmla="val -204662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介面保護鎖安裝方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三、執行會計天師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驅動程式安裝正確後，執行會計天師，在畫面右下角將會顯現使用版本及日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假若出現教育版，代表保護鎖安裝失敗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安裝失敗大致原因為以下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1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未裝妥於印表機埠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2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電腦電源供應器瓦數不足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損壞           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4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除以上狀況外請試重新開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一切步驟完成後，您就可以順利執行會計天師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484360" y="3429000"/>
            <a:ext cx="2158920" cy="504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四、會計科目五大類及八大類設定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32000" y="1989000"/>
            <a:ext cx="3754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程式初設值之就為五大類會計科目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即資產類、負債類、資本類、收入類、費用類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若要選擇使用商業司建議之八大類會計科目，首先請先將安裝光碟片內之檔案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ACC0904.TXT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拷貝至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:\Program Files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中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再至程式中公司基本資料進階三，將會計科目設定為商業司即可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請於公司開帳時便要設定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4319640" cy="3456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050920" y="4437000"/>
            <a:ext cx="2592360" cy="576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五、其他網路工作站設定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32000" y="1989000"/>
            <a:ext cx="3754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內部區域網路，資料庫建議安裝於網路主機，會計程式可安裝於網路工作站中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依序前述安裝步驟，先安裝成功一台工作站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假若能順利執行會計天師，其餘工作站也可逐一安裝，再將第一台安裝成功之工作站中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:\Program Files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的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onnectionstring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檔案拷貝到每一台電腦相同位置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若為商業司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八大類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會計科目，記得每台工作站皆要拷貝光碟片上的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ACC0904.TXT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檔案至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:\Program Files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431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  <a:ea typeface="標楷體"/>
              </a:rPr>
              <a:t>天理電腦資訊有限公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創立於民國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76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主要產品   會計天師   庫存天師   薪資天師   營業稅管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工商登記   兩稅合一   會計師管理系統   專案設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硬體規劃及建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地址   臺北市八德路二段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374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號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樓之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電話　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02-2778-1566 (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五線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傳真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02-2740-79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網頁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2"/>
              </a:rPr>
              <a:t>www.ctl.com.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信箱　 業務部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3"/>
              </a:rPr>
              <a:t>sales@ctl.com.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客服部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4"/>
              </a:rPr>
              <a:t>edu@ctl.com.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硬體部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5"/>
              </a:rPr>
              <a:t>eng@ctl.com.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　　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標楷體"/>
              </a:rPr>
              <a:t>安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標楷體"/>
              </a:rPr>
              <a:t>順序說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控制台→地區語言選項設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MS-SQL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資料庫安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新增新的資料庫名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安裝會計天師程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安裝保護鎖驅動程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修改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connectionstring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檔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啟動會計天師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會計科目五大類及八大類設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其他網路工作站設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標楷體"/>
                <a:ea typeface="標楷體"/>
              </a:rPr>
              <a:t>步驟一、地區語言選項  </a:t>
            </a:r>
            <a:r>
              <a:rPr b="0" lang="en-US" sz="1600" spc="-1" strike="noStrike">
                <a:solidFill>
                  <a:srgbClr val="e5ffff"/>
                </a:solidFill>
                <a:latin typeface="標楷體"/>
                <a:ea typeface="標楷體"/>
              </a:rPr>
              <a:t>(</a:t>
            </a:r>
            <a:r>
              <a:rPr b="0" lang="en-US" sz="1600" spc="-1" strike="noStrike">
                <a:solidFill>
                  <a:srgbClr val="e5ffff"/>
                </a:solidFill>
                <a:latin typeface="標楷體"/>
                <a:ea typeface="標楷體"/>
              </a:rPr>
              <a:t>控制台</a:t>
            </a:r>
            <a:r>
              <a:rPr b="0" lang="en-US" sz="1600" spc="-1" strike="noStrike">
                <a:solidFill>
                  <a:srgbClr val="e5ffff"/>
                </a:solidFill>
                <a:latin typeface="標楷體"/>
                <a:ea typeface="標楷體"/>
              </a:rPr>
              <a:t>)    </a:t>
            </a:r>
            <a:r>
              <a:rPr b="0" lang="en-US" sz="1800" spc="-1" strike="noStrike">
                <a:solidFill>
                  <a:srgbClr val="cc0000"/>
                </a:solidFill>
                <a:latin typeface="標楷體"/>
                <a:ea typeface="標楷體"/>
              </a:rPr>
              <a:t>務必注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114800" cy="540072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716000" y="1125000"/>
            <a:ext cx="39704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月曆類型：請選擇中華民國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簡短日期樣式：請選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yyyy/mm/d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完整日期樣式：請選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ggyyyy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mm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dd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確定存檔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3708360" y="2060640"/>
            <a:ext cx="4334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84720" y="3860640"/>
            <a:ext cx="4334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11640" y="5373720"/>
            <a:ext cx="4334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二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3076560" cy="231012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放入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MS-SQL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安裝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SQL Server 2000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的元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安裝資料庫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29433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三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本機電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第一個選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四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輸入姓名及公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輸入產品序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五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伺服器和用戶端工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勾選預設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六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典型安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Ps: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您也可以選擇將資料檔案放至於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服務設定，請選擇使用本機系統帳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七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混和模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勾選空白密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您也可填入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SA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的密碼，並請您記住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開始複製檔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7:18:04Z</dcterms:created>
  <dc:creator>Jackie</dc:creator>
  <dc:description/>
  <dc:language>en-US</dc:language>
  <cp:lastModifiedBy>Jackie</cp:lastModifiedBy>
  <dcterms:modified xsi:type="dcterms:W3CDTF">2004-12-06T06:47:46Z</dcterms:modified>
  <cp:revision>19</cp:revision>
  <dc:subject/>
  <dc:title>安裝手冊</dc:title>
</cp:coreProperties>
</file>