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95D3-0C4C-4379-961B-718DB935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3C3E-D8C3-4C16-8DC6-E857E8CC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FAF-EDAE-4B15-8D7B-97B02306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AC7E-BCCC-4EDB-ACED-DDFA9083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34F5-B642-465A-BDEE-3D7C518F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4BD5-7417-4AA6-9580-DD228184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1344-F8B9-4DC9-A913-0E200394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7A10-3667-42AF-8622-AF695B12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6B2B-F07E-4621-ABAE-F8ED6EDA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EFEE-BD84-41BD-B871-03B80A14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9BA6-6BA6-4C61-B7DB-018FCF07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5EE5-E7DA-49AF-BEF0-735A3CD8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320A-5231-4C97-ACB3-A7C75314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CBA7-AE65-43DE-917F-DA93BF8B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AAE8-EC49-444C-8EA5-4FBCC47A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4AB4-5A32-4D78-8E1F-6FAC96CD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4F46-CEE7-4A28-B899-E03FC2B9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DC9E9-D2B8-406A-ABBF-EE6D10AD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EAA63-1D6E-41EF-A86F-3F540EB8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97259-172B-40BD-99C2-92C5171E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23591-DCC3-480A-B7C4-C5216CE0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CD8B7-87A5-4396-A42D-13BF7F04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007-D98D-4BB1-87CD-9168C2A3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D2AEC-E253-464C-9DCC-127D4843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5C473-CC7B-46B4-B57B-01B92D7E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BBA1C-95B2-41FA-BB99-495BE197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74AD5-C1E6-43DE-B6F3-B65658A1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53759-2BA3-4687-998E-4E5999CB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30823-0AA2-4951-A945-AB2F12F2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2FE92-02C7-4084-B3E7-781CA260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DA6244-4B0F-4905-8540-B09AF7C0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114CAD-595D-47F7-8E01-63A8E0A3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B783EB-647A-4591-9FE5-779AB4E3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2BB9-36C6-4275-9E46-A5FD9A43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B17211-6486-4D3A-9FB6-3C422989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685EB7-7706-4EB4-B67B-6600502E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0B0B2A-BF99-46FA-B932-4D927C22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2217D3-CE97-4D89-8A3E-D8D9DB7D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40731D-94ED-46BA-8B14-3B1A0EC8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20F37A-5890-4D77-ABFC-7BB278EF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D8C863-2B9D-48D5-95F2-58D59469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968C4E-FEBA-4844-ABE3-436E85CB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0DC998-6003-4521-8D58-30EFB3C5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B31CF-EBE0-4707-8211-9D5197F3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0F74-9B2E-4BC9-A879-3B9D76CB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2F883-B83C-4EF0-9A4C-BF92C5B8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D0AE9-23D9-4CC7-A929-AA874045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1B238-C9CA-4C88-9C42-D718B432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0DCFD-A109-4811-B541-021F0F8A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E1E6B-A029-4D8F-86E0-05ABD56B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87D21-CE00-4D91-9160-6D42D6D9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B07B5-ECEE-4C74-AF79-E015B00F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53920-6CB4-4115-BAF3-EF3C2870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95083-F86E-4F37-B20E-C5C90F29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B45F3-EDFB-4B07-A31E-64ACCFAA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C8A-43FD-4A7C-AEAB-2F9BA068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2FE84-3673-4048-A863-4B6FFF48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6DEA4-CC82-4985-92D1-B830B978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A11D4-B28E-4402-89A2-3AF677A4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D4CF7-F68B-4B54-92D9-F4D118F2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63146-FA74-4E68-B272-CD49CFAE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E2601-5910-4D83-999F-17BE4A9C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C9BDE-1031-4E46-B632-339CB85B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29FD7-31F8-4307-917B-68CC8255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E42AC-E9FC-4562-A53E-9725754A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E16A1-46EA-4AA2-9476-083BA646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53F1-851E-46ED-B6C2-9A611D47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31296-DC4B-46DB-9381-D4311F68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30A7B-D3E8-4C3D-B3AA-17C8BC5A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72428-177C-4888-851D-7937619E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12C98-203C-42FF-BAE8-CB1688FD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E45DA-9FAE-44F7-AF64-4FFBA75C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52F47-F4F4-4C55-BB78-935BEAD1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E78C5-9EA1-4B97-899A-8BCBED27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67ABF-8B98-4C63-AE9A-169FEEA4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30A7A-3425-4701-9460-07D4BB66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9FACE-4EF1-4005-B746-78078C2B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5F1-775F-4CB9-801C-7A278CE3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C9CEE-60A0-4512-A50D-346240EE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1340C-15CC-4900-AD3F-BE0296AB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2083D-EFDF-4DC5-8BA6-7F183970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BD067-AE39-425A-A14F-BEC87B507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02E17-F09B-4327-886F-4D3C53D5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1B1BDA-F79F-48FA-B87F-07710845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65EFC2-B789-457E-8DB0-FE041BE9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D38123-EADE-4BFE-901B-1FD486A4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D682C2-9AD8-47E4-8D75-6A84D253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CDD4A7-FB9C-46F9-B418-9410AAAF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3B5A-59EF-4C8B-99CF-2D01BB95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D73DDD-86C0-4F3F-92CB-AA6F9E10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03C447-EB36-4FED-A6B6-EDCA6BA5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BDE9ED-9011-469E-9AE7-AA9609CF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FFF121-CF2C-4D9D-A175-E20405DC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BACF16-4474-49E0-A370-39EC91FF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BA3F1A-A33D-4C4B-AA85-917890A8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4E6A2A-7AE9-49C2-81CB-E4CB5428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2EA8-5966-4547-AE7A-0E479B158E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AFA6-A619-45E4-84E7-136BB471E3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A0AF-8467-4028-A3AC-BEF6383A79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4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5345-52F2-4568-BD87-711F2C3C4D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0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0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3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E6C7-4146-4884-8883-62764233614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81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85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10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F70A-B92D-4D60-A56A-E3272CBE5C9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4149-2B81-4FEF-A3D8-C157941AE3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B142-CE27-4896-B178-FEBFF12EE9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tl.com.tw/" TargetMode="External"/><Relationship Id="rId2" Type="http://schemas.openxmlformats.org/officeDocument/2006/relationships/hyperlink" Target="http://www.ctl.com.tw/" TargetMode="External"/><Relationship Id="rId3" Type="http://schemas.openxmlformats.org/officeDocument/2006/relationships/hyperlink" Target="mailto:sales@ctl.com.tw" TargetMode="External"/><Relationship Id="rId4" Type="http://schemas.openxmlformats.org/officeDocument/2006/relationships/hyperlink" Target="mailto:edu@ctl.com.tw" TargetMode="External"/><Relationship Id="rId5" Type="http://schemas.openxmlformats.org/officeDocument/2006/relationships/hyperlink" Target="mailto:eng@ctl.com.tw" TargetMode="External"/><Relationship Id="rId6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標楷體"/>
              </a:rPr>
              <a:t>天理電腦資訊有限公司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標楷體"/>
              </a:rPr>
              <a:t>會計天師安裝說明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3173040"/>
            <a:ext cx="8229600" cy="28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標楷體"/>
              </a:rPr>
              <a:t>ACCOUNTING SYSTEM INSTAL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Dotum"/>
                <a:ea typeface="Dotum"/>
              </a:rPr>
              <a:t>本範例適用於</a:t>
            </a:r>
            <a:r>
              <a:rPr b="0" lang="en-US" sz="1600" spc="-1" strike="noStrike">
                <a:solidFill>
                  <a:srgbClr val="ffffff"/>
                </a:solidFill>
                <a:latin typeface="Dotum"/>
                <a:ea typeface="Dotum"/>
              </a:rPr>
              <a:t>WINDOWS X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Dotum"/>
                <a:ea typeface="Dotum"/>
              </a:rPr>
              <a:t>資料庫採用</a:t>
            </a:r>
            <a:r>
              <a:rPr b="0" lang="en-US" sz="1600" spc="-1" strike="noStrike">
                <a:solidFill>
                  <a:srgbClr val="ffffff"/>
                </a:solidFill>
                <a:latin typeface="Dotum"/>
                <a:ea typeface="Dotum"/>
              </a:rPr>
              <a:t>MS-SQL 2000 Server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標楷體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  <a:ea typeface="標楷體"/>
              </a:rPr>
              <a:t>步驟八、資料庫安裝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MS-SQL SERVER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安裝完成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選擇開始→所有程式→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Microsoft  SQL Server→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服務管理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勾選開始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勾選開機時自動啟動服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記住您的伺服器名稱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例如：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ACER-NOT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038480" cy="26208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40384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  <a:ea typeface="標楷體"/>
              </a:rPr>
              <a:t>步驟九、資料庫安裝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MS-SQL SERVER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選擇開始→所有程式→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Microsoft  SQL Server→Enterprise Manag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依序點選至資料庫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按滑鼠右鍵新增資料庫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038480" cy="26208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40384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標楷體"/>
                <a:ea typeface="標楷體"/>
              </a:rPr>
              <a:t>步驟十、資料庫安裝   會計天師安裝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填入資料庫名稱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(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請您記住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本例資料庫名稱為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AC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確定離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會計天師安裝步驟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放入會計天師安裝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點選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SETUP.EX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開始安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其餘安裝皆選擇內定值即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038480" cy="262080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40384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  <a:ea typeface="標楷體"/>
              </a:rPr>
              <a:t>步驟十一、會計天師安裝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安裝完成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將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C:\PROGRAM FILES\ConnectionString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點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分別填入以下資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Data Source=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伺服器名稱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Initial Catalog=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資料庫名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User ID=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使用者名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Passoword=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使用者密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修改完成後存檔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在此舉例：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Data Source=ACER-NO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Initial Catalog=AC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User ID=s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Password=xxxxxxx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038480" cy="26208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40384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  <a:ea typeface="標楷體"/>
              </a:rPr>
              <a:t>步驟十二、保護鎖安裝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648320" y="134100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程式本身是靠保護鎖來控制軟體的使用，保護所有兩種規格，一是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Printer Port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，一是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USB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介面，請將隨附之保護鎖裝妥於電腦印表機埠或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USB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介面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LPT Port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安裝方式：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 執行會計天師安裝片中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HDD32.EXE(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保護鎖驅動程式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)    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依序步驟安裝                選擇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Typical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保護鎖安裝完成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USB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介面安裝方式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：             執行會計天師安裝片中           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大傳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保護鎖驅動程式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-USB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介面中的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haspdinst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程式            請在執行列中鍵入            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haspdinst –install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即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038480" cy="262080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4932360" y="5445000"/>
            <a:ext cx="3822840" cy="102240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324000" y="4076640"/>
            <a:ext cx="4392360" cy="214956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4716360" y="620640"/>
            <a:ext cx="3240360" cy="609840"/>
          </a:xfrm>
          <a:prstGeom prst="wedgeRoundRectCallout">
            <a:avLst>
              <a:gd name="adj1" fmla="val -62004"/>
              <a:gd name="adj2" fmla="val 113282"/>
              <a:gd name="adj3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inter Por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保護鎖安裝方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95280" y="6248520"/>
            <a:ext cx="3384720" cy="493560"/>
          </a:xfrm>
          <a:prstGeom prst="wedgeRoundRectCallout">
            <a:avLst>
              <a:gd name="adj1" fmla="val -5300"/>
              <a:gd name="adj2" fmla="val -204662"/>
              <a:gd name="adj3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B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介面保護鎖安裝方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  <a:ea typeface="標楷體"/>
              </a:rPr>
              <a:t>步驟十三、執行會計天師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642920" y="1412640"/>
            <a:ext cx="4038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保護鎖驅動程式安裝正確後，執行會計天師，在畫面右下角將會顯現使用版本及日期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假若出現教育版，代表保護鎖安裝失敗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保護鎖安裝失敗大致原因為以下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(1)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保護鎖未裝妥於印表機埠    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(2)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電腦電源供應器瓦數不足   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(3)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保護鎖損壞               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(4)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除以上狀況外請試重新開機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一切步驟完成後，您就可以順利執行會計天師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038480" cy="262080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2484360" y="3429000"/>
            <a:ext cx="2158920" cy="504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  <a:ea typeface="標楷體"/>
              </a:rPr>
              <a:t>步驟十四、會計科目五大類及八大類設定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932000" y="1989000"/>
            <a:ext cx="3754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程式初設值之就為五大類會計科目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即資產類、負債類、資本類、收入類、費用類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若要選擇使用商業司建議之八大類會計科目，首先請先將安裝光碟片內之檔案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ACC0904.TXT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拷貝至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C:\Program Files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中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再至程式中公司基本資料進階三，將會計科目設定為商業司即可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請於公司開帳時便要設定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4319640" cy="34560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2050920" y="4437000"/>
            <a:ext cx="2592360" cy="5763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  <a:ea typeface="標楷體"/>
              </a:rPr>
              <a:t>步驟十五、其他網路工作站設定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932000" y="1989000"/>
            <a:ext cx="3754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內部區域網路，資料庫建議安裝於網路主機，會計程式可安裝於網路工作站中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依序前述安裝步驟，先安裝成功一台工作站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假若能順利執行會計天師，其餘工作站也可逐一安裝，再將第一台安裝成功之工作站中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c:\Program Files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的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Connectionstring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檔案拷貝到每一台電腦相同位置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若為商業司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八大類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會計科目，記得每台工作站皆要拷貝光碟片上的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ACC0904.TXT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檔案至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C:\Program Files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4319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  <a:ea typeface="標楷體"/>
              </a:rPr>
              <a:t>天理電腦資訊有限公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創立於民國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76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主要產品   會計天師   庫存天師   薪資天師   營業稅管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工商登記   兩稅合一   會計師管理系統   專案設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硬體規劃及建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公司地址   臺北市八德路二段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374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號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樓之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公司電話　 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02-2778-1566 (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五線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公司傳真   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02-2740-79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公司網頁  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標楷體"/>
                <a:ea typeface="標楷體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標楷體"/>
                <a:ea typeface="標楷體"/>
                <a:hlinkClick r:id="rId2"/>
              </a:rPr>
              <a:t>www.ctl.com.t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公司信箱　 業務部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標楷體"/>
                <a:ea typeface="標楷體"/>
                <a:hlinkClick r:id="rId3"/>
              </a:rPr>
              <a:t>sales@ctl.com.t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客服部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標楷體"/>
                <a:ea typeface="標楷體"/>
                <a:hlinkClick r:id="rId4"/>
              </a:rPr>
              <a:t>edu@ctl.com.t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硬體部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標楷體"/>
                <a:ea typeface="標楷體"/>
                <a:hlinkClick r:id="rId5"/>
              </a:rPr>
              <a:t>eng@ctl.com.t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　　　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  <a:ea typeface="標楷體"/>
              </a:rPr>
              <a:t>安裝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標楷體"/>
              </a:rPr>
              <a:t>順序說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控制台→地區語言選項設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MS-SQL</a:t>
            </a: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資料庫安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新增新的資料庫名稱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安裝會計天師程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安裝保護鎖驅動程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修改</a:t>
            </a: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connectionstring</a:t>
            </a: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檔案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啟動會計天師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會計科目五大類及八大類設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其他網路工作站設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標楷體"/>
                <a:ea typeface="標楷體"/>
              </a:rPr>
              <a:t>步驟一、地區語言選項  </a:t>
            </a:r>
            <a:r>
              <a:rPr b="0" lang="en-US" sz="1600" spc="-1" strike="noStrike">
                <a:solidFill>
                  <a:srgbClr val="e5ffff"/>
                </a:solidFill>
                <a:latin typeface="標楷體"/>
                <a:ea typeface="標楷體"/>
              </a:rPr>
              <a:t>(</a:t>
            </a:r>
            <a:r>
              <a:rPr b="0" lang="en-US" sz="1600" spc="-1" strike="noStrike">
                <a:solidFill>
                  <a:srgbClr val="e5ffff"/>
                </a:solidFill>
                <a:latin typeface="標楷體"/>
                <a:ea typeface="標楷體"/>
              </a:rPr>
              <a:t>控制台</a:t>
            </a:r>
            <a:r>
              <a:rPr b="0" lang="en-US" sz="1600" spc="-1" strike="noStrike">
                <a:solidFill>
                  <a:srgbClr val="e5ffff"/>
                </a:solidFill>
                <a:latin typeface="標楷體"/>
                <a:ea typeface="標楷體"/>
              </a:rPr>
              <a:t>)    </a:t>
            </a:r>
            <a:r>
              <a:rPr b="0" lang="en-US" sz="1800" spc="-1" strike="noStrike">
                <a:solidFill>
                  <a:srgbClr val="cc0000"/>
                </a:solidFill>
                <a:latin typeface="標楷體"/>
                <a:ea typeface="標楷體"/>
              </a:rPr>
              <a:t>務必注意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114800" cy="540072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716000" y="1125000"/>
            <a:ext cx="39704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月曆類型：請選擇中華民國曆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簡短日期樣式：請選擇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yyyy/mm/d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完整日期樣式：請選擇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ggyyyy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mm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dd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日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確定存檔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3708360" y="2060640"/>
            <a:ext cx="4334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284720" y="3860640"/>
            <a:ext cx="43344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211640" y="5373720"/>
            <a:ext cx="433440" cy="43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  <a:ea typeface="標楷體"/>
              </a:rPr>
              <a:t>步驟二、資料庫安裝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MS-SQL SERVER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1116000" y="1628640"/>
            <a:ext cx="3076560" cy="231012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放入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MS-SQL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安裝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選擇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SQL Server 2000</a:t>
            </a: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的元件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選擇安裝資料庫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選擇下一步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1187280" y="4221000"/>
            <a:ext cx="29433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  <a:ea typeface="標楷體"/>
              </a:rPr>
              <a:t>步驟三、資料庫安裝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MS-SQL SERVER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選擇本機電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下一步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選擇第一個選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下一步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038480" cy="26208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40384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  <a:ea typeface="標楷體"/>
              </a:rPr>
              <a:t>步驟四、資料庫安裝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MS-SQL SERVER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輸入姓名及公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下一步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輸入產品序號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下一步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038480" cy="26208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40384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  <a:ea typeface="標楷體"/>
              </a:rPr>
              <a:t>步驟五、資料庫安裝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MS-SQL SERVER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選擇伺服器和用戶端工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下一步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勾選預設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下一步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038480" cy="26208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40384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  <a:ea typeface="標楷體"/>
              </a:rPr>
              <a:t>步驟六、資料庫安裝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MS-SQL SERVER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選擇典型安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下一步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標楷體"/>
                <a:ea typeface="標楷體"/>
              </a:rPr>
              <a:t>Ps:</a:t>
            </a:r>
            <a:r>
              <a:rPr b="0" lang="en-US" sz="1400" spc="-1" strike="noStrike">
                <a:solidFill>
                  <a:srgbClr val="ffffff"/>
                </a:solidFill>
                <a:latin typeface="標楷體"/>
                <a:ea typeface="標楷體"/>
              </a:rPr>
              <a:t>您也可以選擇將資料檔案放至於</a:t>
            </a:r>
            <a:r>
              <a:rPr b="0" lang="en-US" sz="1400" spc="-1" strike="noStrike">
                <a:solidFill>
                  <a:srgbClr val="ffffff"/>
                </a:solidFill>
                <a:latin typeface="標楷體"/>
                <a:ea typeface="標楷體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標楷體"/>
                <a:ea typeface="標楷體"/>
              </a:rPr>
              <a:t>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服務設定，請選擇使用本機系統帳戶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下一步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038480" cy="26208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40384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  <a:ea typeface="標楷體"/>
              </a:rPr>
              <a:t>步驟七、資料庫安裝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MS-SQL SERVER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選擇混和模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勾選空白密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標楷體"/>
                <a:ea typeface="標楷體"/>
              </a:rPr>
              <a:t>您也可填入</a:t>
            </a:r>
            <a:r>
              <a:rPr b="0" lang="en-US" sz="1400" spc="-1" strike="noStrike">
                <a:solidFill>
                  <a:srgbClr val="ffffff"/>
                </a:solidFill>
                <a:latin typeface="標楷體"/>
                <a:ea typeface="標楷體"/>
              </a:rPr>
              <a:t>SA</a:t>
            </a:r>
            <a:r>
              <a:rPr b="0" lang="en-US" sz="1400" spc="-1" strike="noStrike">
                <a:solidFill>
                  <a:srgbClr val="ffffff"/>
                </a:solidFill>
                <a:latin typeface="標楷體"/>
                <a:ea typeface="標楷體"/>
              </a:rPr>
              <a:t>的密碼，並請您記住</a:t>
            </a:r>
            <a:r>
              <a:rPr b="0" lang="en-US" sz="14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下一步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開始複製檔案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標楷體"/>
                <a:ea typeface="標楷體"/>
              </a:rPr>
              <a:t>下一步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038480" cy="262080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40384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07:18:04Z</dcterms:created>
  <dc:creator>Jackie</dc:creator>
  <dc:description/>
  <dc:language>en-US</dc:language>
  <cp:lastModifiedBy>Jackie</cp:lastModifiedBy>
  <dcterms:modified xsi:type="dcterms:W3CDTF">2004-12-06T06:47:46Z</dcterms:modified>
  <cp:revision>19</cp:revision>
  <dc:subject/>
  <dc:title>安裝手冊</dc:title>
</cp:coreProperties>
</file>